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B89A-2DCA-4F34-9DB7-A2427AE9DA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A2E3-BCA8-4027-B96A-6978C9EB3DE5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008-0B01-40AD-8F9C-A426DDD1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D31-F050-43C5-B2DA-D48C6AD9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FEB-2216-4C7B-96E0-4CC94BCE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44F3-748B-43FF-B96E-025D938B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34DD-FDB7-46DD-89F8-968E4667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8D8F-23C1-42D8-A2F9-28D52385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2DA8-39D4-4B62-B498-DE3183F3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A21D-43B2-4C16-A802-EFED92F2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56B3-135D-4087-8659-B0315D4B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69F0-4F5E-4142-8E74-7D5A9982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9BEB-1E62-453A-A837-5727D1EA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5FF-E192-4363-BDB9-399567F4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175D-4E36-4DA2-8A68-66EC9566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E5B7-8676-4812-B9D8-4AA703AA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8B10-E36D-4DCF-96AB-751B5360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B167-4C91-4C75-BF66-6CFDE5C0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2C2C-2598-4811-A85D-711AFC18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DEA-55A0-4D28-9C39-52391C41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4BB-6FF5-4368-9AD3-E5376475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EC4-88F9-46A7-AB41-B623AD75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370-EEA7-4445-B3C3-D5847A20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2FA-DEF2-48D7-BE89-84B765C3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842-80BD-4B07-BF75-09391847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954-4105-4476-BA67-6C562ECB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8905-E40D-4B57-B796-58D84C7471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4584-20F6-4421-8D74-945525A349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24000" y="981000"/>
            <a:ext cx="777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71680" y="1285920"/>
            <a:ext cx="784836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원인금지주의와 폐해규제주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원인금지주의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독점구조를 방지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○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폐해규제주의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독점적 행위를 방지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○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당연위법원칙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( per se rule) :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합리적 이유 불인정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○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합리성의 원칙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(rule of reason) :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합리적 이유 인정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직사각형 5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1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1" name="직사각형 5"/>
          <p:cNvSpPr/>
          <p:nvPr/>
        </p:nvSpPr>
        <p:spPr>
          <a:xfrm>
            <a:off x="571680" y="5715000"/>
            <a:ext cx="80010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60c"/>
              </a:buClr>
              <a:buFont typeface="한컴바탕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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가격상한선을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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보다조금만높게설정하면기업은장기적으로는초과이윤을노려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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를따라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60c"/>
              </a:buClr>
              <a:buFont typeface="한컴바탕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생산량을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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까지확장해나갈것이다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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2" name="직사각형 6"/>
          <p:cNvSpPr/>
          <p:nvPr/>
        </p:nvSpPr>
        <p:spPr>
          <a:xfrm>
            <a:off x="571680" y="1000080"/>
            <a:ext cx="8001000" cy="450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5cb9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직사각형 8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10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14" name="그림 9" descr="16-3 copy.bmp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367164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5" name="모서리가 둥근 직사각형 10"/>
          <p:cNvSpPr/>
          <p:nvPr/>
        </p:nvSpPr>
        <p:spPr>
          <a:xfrm>
            <a:off x="1476360" y="1268280"/>
            <a:ext cx="237492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60c"/>
                </a:solidFill>
                <a:latin typeface="굴림"/>
              </a:rPr>
              <a:t>그림 </a:t>
            </a:r>
            <a:r>
              <a:rPr b="1" lang="en-US" sz="1200" spc="-1" strike="noStrike">
                <a:solidFill>
                  <a:srgbClr val="00060c"/>
                </a:solidFill>
                <a:latin typeface="굴림"/>
              </a:rPr>
              <a:t>16-3  </a:t>
            </a:r>
            <a:r>
              <a:rPr b="1" lang="ko-KR" sz="1200" spc="-1" strike="noStrike">
                <a:solidFill>
                  <a:srgbClr val="00060c"/>
                </a:solidFill>
                <a:latin typeface="굴림"/>
              </a:rPr>
              <a:t>가격상한선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>
            <a:hlinkClick r:id="rId1" action="ppaction://hlinksldjump"/>
          </p:cNvPr>
          <p:cNvSpPr/>
          <p:nvPr/>
        </p:nvSpPr>
        <p:spPr>
          <a:xfrm>
            <a:off x="1000080" y="1500120"/>
            <a:ext cx="664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자연독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규모의 경제와 자연독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가격규제 또는 공기업화로 해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직사각형 5">
            <a:hlinkClick r:id="rId2" action="ppaction://hlinksldjump"/>
          </p:cNvPr>
          <p:cNvSpPr/>
          <p:nvPr/>
        </p:nvSpPr>
        <p:spPr>
          <a:xfrm>
            <a:off x="2500200" y="2857680"/>
            <a:ext cx="2156040" cy="5000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&lt; </a:t>
            </a:r>
            <a:r>
              <a:rPr b="1" lang="ko-KR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그림 </a:t>
            </a:r>
            <a:r>
              <a:rPr b="1" lang="en-US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16-1 &gt;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직사각형 7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2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14240" y="1071720"/>
            <a:ext cx="784872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독점금지정책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미국의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독점금지법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3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大 성문법 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- Sherman Act(1890)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- Clayton Act(1914) 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- Federal Trade Commission Act(1914)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한국의 독점규제 및 공정거래에 관한 법률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(1980)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1.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독점금지정책의 모색기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: 1964 ~ 1975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2.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독점금지정책의 도입기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: 1975 ~ 1980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3.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독점금지정책의 확립기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: 1980 ~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6" name="직사각형 4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3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Text Box 5">
            <a:hlinkClick r:id="rId1" action="ppaction://hlinksldjump"/>
          </p:cNvPr>
          <p:cNvSpPr/>
          <p:nvPr/>
        </p:nvSpPr>
        <p:spPr>
          <a:xfrm>
            <a:off x="714240" y="1143000"/>
            <a:ext cx="784872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공공규제정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공익산업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(public utilities)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의 독점 폐해 방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자연독점 → 시장실패 → 공공규제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가격규제 또는 국유화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수익률규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적정수익률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(fair rate of return)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만 벌도록 가격통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생산의 비효율성 초래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: A-J Effect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직사각형 5">
            <a:hlinkClick r:id="rId2" action="ppaction://hlinksldjump"/>
          </p:cNvPr>
          <p:cNvSpPr/>
          <p:nvPr/>
        </p:nvSpPr>
        <p:spPr>
          <a:xfrm>
            <a:off x="2786040" y="4214880"/>
            <a:ext cx="2155680" cy="5000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&lt; </a:t>
            </a:r>
            <a:r>
              <a:rPr b="1" lang="ko-KR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그림 </a:t>
            </a:r>
            <a:r>
              <a:rPr b="1" lang="en-US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16-2 &gt;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1" name="직사각형 6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4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14240" y="1071720"/>
            <a:ext cx="784872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공공소유정책</a:t>
            </a:r>
            <a:endParaRPr b="0" lang="en-US" sz="21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산업의 전부를 정부가 소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산업의 일부를 정부가 소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산업을 국유화 시키는 목적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공익추구와 경영성과 개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공공소유의 이점 </a:t>
            </a:r>
            <a:endParaRPr b="0" lang="en-US" sz="21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자연독점 문제 해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수익을 공익용도로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정부가 사업의 위험부담을 감수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노동자의 소외감을 불식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□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공공소유의 문제점 </a:t>
            </a:r>
            <a:endParaRPr b="0" lang="en-US" sz="21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의사결정기준이 불분명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이윤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or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공익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효율성의 문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5" name="직사각형 4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5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00040" y="1143000"/>
            <a:ext cx="784872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통제와 권고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가격통제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상한가격 설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가격통제의 효과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가격권고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정부가 기업에 대한 설득으로 가격안정화를 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미국의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guideposts program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정보제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소비자에게 충분한 정보 제공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대항력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육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9" name="직사각형 6">
            <a:hlinkClick r:id="rId1" action="ppaction://hlinksldjump"/>
          </p:cNvPr>
          <p:cNvSpPr/>
          <p:nvPr/>
        </p:nvSpPr>
        <p:spPr>
          <a:xfrm>
            <a:off x="2071800" y="2286000"/>
            <a:ext cx="2155680" cy="5000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&lt; </a:t>
            </a:r>
            <a:r>
              <a:rPr b="1" lang="ko-KR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그림 </a:t>
            </a:r>
            <a:r>
              <a:rPr b="1" lang="en-US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16-3 &gt;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직사각형 7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6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42960" y="1357200"/>
            <a:ext cx="7920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□ 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조세정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보조금정책 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; P = MR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되도록 독점자에게 보조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–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비현실적</a:t>
            </a:r>
            <a:endParaRPr b="0" lang="en-US" sz="21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조세 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누진적 물품세</a:t>
            </a:r>
            <a:endParaRPr b="0" lang="en-US" sz="21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관세 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관세인하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외국상품과의  경쟁 유도</a:t>
            </a:r>
            <a:endParaRPr b="0" lang="en-US" sz="21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직사각형 4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7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6" name="Text Box 3">
            <a:hlinkClick r:id="rId1" action="ppaction://hlinksldjump"/>
          </p:cNvPr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7" name="직사각형 5">
            <a:hlinkClick r:id="rId2" action="ppaction://hlinksldjump"/>
          </p:cNvPr>
          <p:cNvSpPr/>
          <p:nvPr/>
        </p:nvSpPr>
        <p:spPr>
          <a:xfrm>
            <a:off x="571680" y="5715000"/>
            <a:ext cx="80010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60c"/>
              </a:buClr>
              <a:buFont typeface="한컴바탕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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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가계속하락하는자연독점산업에서는생산량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</a:t>
            </a:r>
            <a:r>
              <a:rPr b="1" lang="en-US" sz="11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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를두기업이경쟁적으로공급할때의평균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60c"/>
              </a:buClr>
              <a:buFont typeface="한컴바탕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생산비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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보다한기업이독점적으로공급할때의평균생산비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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가더낮다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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직사각형 6">
            <a:hlinkClick r:id="rId3" action="ppaction://hlinksldjump"/>
          </p:cNvPr>
          <p:cNvSpPr/>
          <p:nvPr/>
        </p:nvSpPr>
        <p:spPr>
          <a:xfrm>
            <a:off x="571680" y="1000080"/>
            <a:ext cx="8001000" cy="450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5cb9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직사각형 8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8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00" name="그림 9" descr="16-1 copy.bmp"/>
          <p:cNvPicPr/>
          <p:nvPr/>
        </p:nvPicPr>
        <p:blipFill>
          <a:blip r:embed="rId4"/>
          <a:stretch/>
        </p:blipFill>
        <p:spPr>
          <a:xfrm>
            <a:off x="1763640" y="1413000"/>
            <a:ext cx="5545080" cy="367164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1" name="모서리가 둥근 직사각형 10"/>
          <p:cNvSpPr/>
          <p:nvPr/>
        </p:nvSpPr>
        <p:spPr>
          <a:xfrm>
            <a:off x="1476360" y="1268280"/>
            <a:ext cx="280836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60c"/>
                </a:solidFill>
                <a:latin typeface="굴림"/>
              </a:rPr>
              <a:t>그림 </a:t>
            </a:r>
            <a:r>
              <a:rPr b="1" lang="en-US" sz="1200" spc="-1" strike="noStrike">
                <a:solidFill>
                  <a:srgbClr val="00060c"/>
                </a:solidFill>
                <a:latin typeface="굴림"/>
              </a:rPr>
              <a:t>16-1  </a:t>
            </a:r>
            <a:r>
              <a:rPr b="1" lang="ko-KR" sz="1200" spc="-1" strike="noStrike">
                <a:solidFill>
                  <a:srgbClr val="00060c"/>
                </a:solidFill>
                <a:latin typeface="굴림"/>
              </a:rPr>
              <a:t>규모의 경제와 자연독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571680" y="5715000"/>
            <a:ext cx="80010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60c"/>
              </a:buClr>
              <a:buFont typeface="한컴바탕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수익률규제가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실시되면가격이평균생산비를넘지못하도록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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에서가격상한선이설정된다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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571680" y="1000080"/>
            <a:ext cx="8001000" cy="450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5cb9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6" name="직사각형 8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9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07" name="그림 9" descr="16-2 copy.bmp"/>
          <p:cNvPicPr/>
          <p:nvPr/>
        </p:nvPicPr>
        <p:blipFill>
          <a:blip r:embed="rId1"/>
          <a:stretch/>
        </p:blipFill>
        <p:spPr>
          <a:xfrm>
            <a:off x="1835280" y="1484280"/>
            <a:ext cx="5400720" cy="367344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8" name="모서리가 둥근 직사각형 10"/>
          <p:cNvSpPr/>
          <p:nvPr/>
        </p:nvSpPr>
        <p:spPr>
          <a:xfrm>
            <a:off x="1476360" y="1268280"/>
            <a:ext cx="309564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60c"/>
                </a:solidFill>
                <a:latin typeface="굴림"/>
              </a:rPr>
              <a:t>그림 </a:t>
            </a:r>
            <a:r>
              <a:rPr b="1" lang="en-US" sz="1200" spc="-1" strike="noStrike">
                <a:solidFill>
                  <a:srgbClr val="00060c"/>
                </a:solidFill>
                <a:latin typeface="굴림"/>
              </a:rPr>
              <a:t>16-2  </a:t>
            </a:r>
            <a:r>
              <a:rPr b="1" lang="ko-KR" sz="1200" spc="-1" strike="noStrike">
                <a:solidFill>
                  <a:srgbClr val="00060c"/>
                </a:solidFill>
                <a:latin typeface="굴림"/>
              </a:rPr>
              <a:t>수익률규제에 의한 가격책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03:48Z</dcterms:created>
  <dc:creator>Administrator</dc:creator>
  <dc:description/>
  <dc:language>en-US</dc:language>
  <cp:lastModifiedBy>USE</cp:lastModifiedBy>
  <dcterms:modified xsi:type="dcterms:W3CDTF">2011-02-23T08:17:36Z</dcterms:modified>
  <cp:revision>35</cp:revision>
  <dc:subject/>
  <dc:title>슬라이드 1</dc:title>
</cp:coreProperties>
</file>